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0.tif" ContentType="image/tiff"/>
  <Override PartName="/ppt/media/image11.png" ContentType="image/png"/>
  <Override PartName="/ppt/media/image18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19.gif" ContentType="image/gif"/>
  <Override PartName="/ppt/media/image1.png" ContentType="image/png"/>
  <Override PartName="/ppt/media/image2.png" ContentType="image/png"/>
  <Override PartName="/ppt/media/image14.tif" ContentType="image/tiff"/>
  <Override PartName="/ppt/media/image17.jpeg" ContentType="image/jpeg"/>
  <Override PartName="/ppt/media/image3.png" ContentType="image/png"/>
  <Override PartName="/ppt/media/image15.tif" ContentType="image/tiff"/>
  <Override PartName="/ppt/media/image4.png" ContentType="image/png"/>
  <Override PartName="/ppt/media/image6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30F64-69A3-48EA-80C9-B9FE5ED251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BAF5E-4E76-4E1D-BD65-75EAB293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DD8AE8-4CE7-4733-BFBD-EC31D402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39B102-F338-49C5-B037-FE8288EEA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C61660-9835-49A7-9F83-D3874F9A5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90F9CB-FE4B-40AE-90BD-C3937B60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B0DA29-42F8-4577-9554-5B94C8E2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F2BA31-D08D-4506-B8D9-49414250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DAE32E-CA07-444A-A9D4-8559C1E6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FAB9D1-DE73-41FD-B2C2-36E8D3E3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CE6149-B113-4409-B323-9D16A30E74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1CC79-ADB5-4025-8741-132989DD94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04D4D-C2A3-4C06-93CA-1D0FABF9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2A4D2-810C-43B9-BADB-02D15B62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39143-3E1E-49F4-89BA-6113B411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14A49-2CF4-47EF-80E4-4A599E50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10877-761C-4972-963C-C70A8212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C5D7A-1435-4212-9775-A49B94DF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F9898-7888-41B8-AEC1-13E1FC96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F0C3C-F1EE-49FB-88A0-137C04E3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9F662-EE62-4AD3-84A0-B40222FF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80334-7D10-494C-A200-A2BE8E2C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4612B-16A4-4C6B-8A01-7D772529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93CC2-A4BA-446D-A633-A654BDF8AE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72A94-AC38-4827-B0D6-CD2CB63B7C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499DB8-9EEE-4F22-97F2-4D7833BB0C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7DF601-9ABC-4A3B-AA16-41265159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B29280-5AA3-4C6E-9991-013193D2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22A0A7-FFEC-47DD-AC4A-281B2EDB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DC08D7-FF1E-4358-9134-43122771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4925ED-FE83-4C44-A3A9-52B066B4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0F8B4E-DA82-48FC-960A-E129C5F0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F68683-AC63-46E0-94C9-F1F14A49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4B98CE-2C2B-4FC8-AD11-AA278E78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DD5D4-8E3A-430C-94B8-D148521F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9E9EBB-DA1F-4878-B055-0740525B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8C764F-3D37-4227-984E-599CBE4E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DF1760-9101-411E-A6BF-CBFE593B29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259042-EF39-484A-A8BD-02511CEE22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1194E6-0F8F-4238-B501-F29B8811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C47A16-9E97-4BCB-B9B0-D39988F1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7BDDA4-F6A0-4874-BFFD-E8BD5BFA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80A1E6-0C64-45BB-885B-65DEF1BA1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9102DC-C4AC-4CBD-90CD-0FDDC58EE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67DB89-E04E-4082-909B-B7A705AB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7A2F7-F703-4B30-A977-43E5895B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2A13C0-5895-41D0-8A6E-94152E03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C793D8-E000-4F0F-A8A8-E92F20DA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1EFAD5-7EAA-44A8-ADB9-6C007188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6E2967-CCC6-4349-B07B-3B130FF8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998933-7479-4564-B64B-2F3D0C20D2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AE0EB-8008-49F1-BB46-751F90D62A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F0AD1-19E5-4BD8-91A4-B95DA9BF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B046D-2766-4F39-9B24-EC948418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0F4B0-E612-43FA-978E-73BB3B9A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1352B-3567-4EE5-95DE-59E22BBF0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AB7CE-D66E-4721-A49D-9A1AB86A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20CD3-A0C5-42CD-B66E-4D2C1F665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0CEA1-DBE3-48D0-B019-91A3F5BA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5676B-B4E4-4208-955D-0DC3B201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ADCA3-B883-4743-BBE9-AE2CDED7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CA660-0214-4D86-BF82-7E0A50CF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E99C9-1A3C-4D5C-AC5E-67312563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47338-A3D6-4754-9238-9570E97AF5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578F3-3A6B-4F22-9078-83DBF88D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58EDF-1E17-4085-9CB6-ADAB4193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D1D8C-978D-4444-9CFB-75EFF612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AFD9D-EC7B-4BF3-B8B9-134388BF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929A7-5ED2-471D-A732-7C22B0D2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9A401-DC65-48CB-B4A4-B553C2C3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7F05D-CF94-44EB-B2BC-81E020EF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DE918-D05A-48E3-8AC8-EB7B61FF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EFA4E3-76F8-4BD1-9BE5-A0FAA125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2D5AB-A665-44F0-8E32-E46EC586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243A1-0A94-4124-9D47-16304608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DD2BD-3CDA-4350-8829-966CC8B12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D0BEB-A467-4AFC-8FD2-16A680065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63E77-1098-488A-9B9A-32DAFFEA3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06E8A-09F7-4A8A-98B3-55DC5356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281CC-041E-40CC-82AF-633D8CA5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706B6-2A54-46CA-8146-55051DE5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D3230-4771-4119-ACA7-4922A2C0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8364B-D005-43DF-9E5D-787B3365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01541-91F1-4F2D-8323-4BCD82E8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32A97-7BAF-468C-8216-60955E11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2FED7-71C7-412A-93E5-7408665A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9CA2A-8927-4562-B774-BD295DB7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8E378-172E-4350-B81E-802B6A6B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24E5E-47B1-45A3-ADC6-A25DA606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9EA7C-E95F-424A-97ED-13EB1B9E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1E793-1F8B-4F9B-9B6D-4586ACC9B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B60E8-8866-4F47-8AFA-A06DD565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470AD-A279-418B-992C-E6A4E17E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CAC258-B5F4-40ED-A24D-32B1201E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7B2082-BED1-4828-94FD-A930A008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48C6F9-043C-4DCE-8022-7BB1C5E0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B9D22-FF3E-41A8-BFD7-93777273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8CC80A-2425-4D4D-AD01-EBBF6B7B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F10C44-611C-4F16-A48A-28E95DE9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C17B1-A547-43A1-81F8-2C3D5564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691FD-51C5-475F-9F4D-C1692DBB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65272-796F-44D7-9EDD-5BD417D0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045912-A50F-451A-B639-01E43DE7E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DC003-354C-46C8-99B8-1755CE646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A82AC3-625F-4FC2-B236-179CAA136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265BAF-ADA2-4ED7-8148-0EF2A565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832601-20D8-479A-B3E7-98DF0318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63D2C5-81CB-4348-9710-B15CA2AE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04EA2E-8643-4FBB-94D7-97BD9E10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3710D9-4A54-437D-8316-501304E5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3AE948-437F-4EB5-830A-BBAD0AB5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A9125-47EF-40AF-8F1A-2D69A8D6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9ACFD-4E8D-4F0A-B124-1344D2A7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AF6A7A-7B71-42CF-8261-2CB344D7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705212-A6C1-4FEE-AB8E-DF3D2CCE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2F248F-780B-4AD2-8BBE-90E10E25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74B428-2664-4F02-89B5-379D2D9C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D6BEA2-9A47-4645-8E9A-BCC051FA2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B00040-FF10-4B41-A333-3022A2778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B10E25-4F37-4818-884D-A5D3AF0C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BCB7AC-BE96-4980-8748-85D4C30A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BD323D-FF47-4DCA-A59C-45CED5F2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085430-AD88-4AB6-B0C0-2886CBAB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E62F9-6B0E-4EE5-B64E-9D051305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D84298-32A4-4644-ACF4-23B1FEFA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0582C7-7560-46C2-A59A-E3DB807D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E412D8-AC68-44FE-8AD5-8FF1E873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B0B4E0-DA5E-4A39-B1DC-B83F493B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787D43-F110-4A04-BB43-5AFFA16E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C1EA52-F348-44C5-8A2E-C0AB3469F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32B4DE-303E-4405-8E6A-8D550184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8F2C0C-E17D-47CE-8CA9-B8113DB66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EC8CF5-0599-44A4-BA0E-60468DC3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B56AE4-FBD0-4F7C-943C-88C94D3A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2BD3C-D677-4622-8519-7AFEFBAA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942186-929B-4E5A-B01D-A31FF8DC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7DDA78-D718-4F07-AA30-F62ECB7D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1BC0FC-DBF3-4D68-BAA8-1C6D43D8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C35E92-141D-4468-8EB4-DF6C05CC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DF75D5-E062-4DE6-B0E8-509AE0F9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E7A7E7-263E-4206-8381-39350013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23699C-5D73-45D6-ADCF-972240B3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824745-32FA-4D2A-A908-8D830FEFC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C57A63-9BA4-41EA-BAEA-6BF2A560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5A776D-8CDA-440C-9101-14E0C9FD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3A265-9350-4728-B661-607485F83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2C32FB-C22C-4444-91F8-6329FCEF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0BFBED-2910-40C6-AD27-C1224141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B3B740-E9D6-442E-9CD5-2866DA03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C69096-7DBC-4B20-B640-1A6C633C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955D2F-5545-47D0-8CC7-AE9B9122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57A852-EE53-47B8-8A44-A9BA489C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3499E9-DC9F-435A-BD38-F35674FD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570B23-15AD-4361-8D42-32432D99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F84E7B-7D39-4DA0-A07B-6F943A38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7D67F8-7BDF-4D09-BE83-D19D83FC8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8E0FF-D2CD-43CC-938E-D8FDF5366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375D92-D781-4B15-8AD2-A159EBB7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2A71DC-8E8F-4AC6-BEDC-D5BD2C0BC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D11E8C-20DA-4702-8868-13118D21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440E32-0742-4644-97BA-F65ACA3C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C01180-CFFC-4E72-92CB-2F77C1E9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A90F62-57DB-4C4D-BE31-35B66978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979FE8-6699-4825-B9B7-AE2417E0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F35DAB-3C87-42D3-A1C6-D7C45A6F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2869E5-65FB-4684-9093-2226CBE0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6CA4C4-0D75-45F7-A02C-DA721F50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BA6E87-C005-4370-B109-CDFD84E0A0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7229DF-80A9-4F54-BF1F-062C77B6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CEB151-BE19-43DC-B785-89B6221D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381D70-4569-4146-A6DE-37464F66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53F93B-08A2-4FED-8176-39CF8886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F07040-BE54-4CFC-9D49-23DC181D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6F86B7-05AD-4877-AD40-688C6FC2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C0C1AE-B5A4-4CD7-B689-A8A00D00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72EECC-F0BD-48A6-BE8E-0A7A7A03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1B3011-2488-4832-A559-60C73CDA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8D121C-B988-4A4F-9DB2-E371C3D2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1D9640-016A-4ED3-B056-5D64088C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FC7723-3E16-4D90-A755-80E37E4C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FDADB3-10A1-48AA-AC38-2A002195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0C2DB1-5861-4C4B-94FD-7703C345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A63E81-7417-49D5-B47B-23285ACF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B56A6C-594C-47E4-B630-30812C3DA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4EC047-5847-4A5A-A5E3-ACD29F29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A858C7-896E-4FC4-A17B-400C0913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6503E1-DDE8-4094-AD09-DCC5A4B1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66A1FA-242F-4E31-9750-87E5DC76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4F9DD5-0383-4BBB-8F15-393B9C80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4D2E09-910A-4C00-8219-955AF250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5CD97C-A066-4E25-B790-39E415CD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1B7749-671F-4F6C-B8D2-B9631B25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B9B12A-DA34-47D0-B47A-87F51384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9C7BFB-1C96-48EF-A31C-719701E1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347725-7090-4312-93CC-1D872398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5783FC-9796-498D-AD09-D1E858E66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05B418-140F-4591-BFD9-EF0C7FAEB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8486F7-AF90-4D90-A689-AA781A61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0E03EC-93E4-4579-AD6A-151A2A9B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534BE5-1055-426F-B46E-387E1E67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3C60D9-0E2E-4779-B1A3-3F80AE45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DA061F-67A0-4D2F-9991-98111C17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F05A74-5A0E-4A87-8FF8-497F52B6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FC831D-5E40-4BF1-B424-2D7A018B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3365CD-C51F-4772-806C-6F694D1A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28F402-FD08-46FD-A67C-18916AE2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4C515A-D9D4-4FEE-81D4-364B02CC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40BF45-2F19-49EA-A5CE-CE1C1863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AA4ED1-7007-444C-817E-6685D9179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A80236-D787-4F87-893C-9D1DDA6F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D21A0E-0530-49FD-8D17-652AD8EED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AC57F-07EB-4DC4-8A0D-66FFB311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2037EB-20C6-4444-BB48-9201E4B0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E57195-3D19-48B6-B1ED-F6CD0926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A8CF9B-3365-4873-B799-8CBCCDAA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00505B-2325-4827-A9A4-D85C7E64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9E6163-15EE-47A6-9429-4E00B7BD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DC6706-B617-440C-8AFB-75628753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0499D1-8FE2-4E44-8079-C57929157C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6AFFE-0355-4D36-870E-57577E4B08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BCE0D-3342-4635-B2F2-A4F8645D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4AD42-DE85-407B-98E2-EDC63680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7A4A1-F0A2-4859-9D9B-685A248C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26134-CC92-4C5D-85EE-FCFABCCA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02ED3-1591-4A3F-96BF-28884EC0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CB26F-BA96-4F86-8AFA-9D63C72AF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9915D-8836-42FE-9F1E-040B3841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6BC73-F86C-40B6-9DAC-B7F752D4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C97C7-9153-439C-B2CF-159A3FDB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DD848-29FE-4F63-A992-0E50F6E0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25319-9257-4C91-897A-84905164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D6955-0149-4DE6-9EEC-32A5B4C26C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8A2A93-3E02-4CC2-8D92-4B7CCDB346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72145-DCC2-4A0A-AB36-E8B72AC9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BB498F-3DB9-4697-82BA-5413E174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E966C5-AD8A-4E20-9C1F-A91560AC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C78889-D5F9-4951-950B-2AC8F5AA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3F211F-21A2-4657-8973-431B8A82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991AB2-E624-4DEE-B59E-D358EF402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C245EA-3C6C-4BEB-9FDE-5A7C890C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F72698-11FF-433F-9C8A-B023ADB7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07CF26-6447-42B7-8EEE-6F94979B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E089E3-3262-4CE5-9B73-283AAA44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048A86-EACD-42A1-8893-11D95A61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2A0BA-CB86-4EA9-B5E5-E8C050DF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C1E863-B730-4D85-B607-F4FFE53368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FBD9F5-336E-4626-9326-9BD20F439F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4B01CF-E88E-4658-A8DF-6409636D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C21016-5110-4AA6-9DBE-35D5FE45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E681E0-3156-4000-8CDF-6DA01103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7D1C2B-A11C-42BF-950C-BB1B86B0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D84559-44D5-4D39-B0B3-6FA0C16E0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D397AC-5F67-43C1-A920-D5AE732E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5BC072-534E-4742-B461-283D5AE5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376DCE-A4D9-4977-96C6-11E25C9B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64FEE-F622-4E57-896E-42CB3389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120570-2348-433E-9E1C-C9A2AEC7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B0222A-4B9E-4225-93AD-06B321CA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9842FB-505A-423F-90F5-29B1E22C6B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DC745-3642-4AEC-A1DD-08A6FA58C6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1195F-AE81-4DA3-9A7F-49B9CE8F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02F6B-8602-4873-9979-4A3928EF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29879-BBA1-4650-92F5-54E5E63B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802E0-4727-4AFE-8DE7-4648A5D94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0A059-A8BB-4EC9-88F1-75089610A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D320D-F4EA-462E-A6CB-DE497533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E6709-4EDC-4694-8442-34537B68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899BD-E598-40C6-94E4-24073CF4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A47D8-6434-4929-9EED-AAD9ED90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D75BA-F59C-483C-9A2D-C3469682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852FE-E7B0-405E-97A3-3F950BD2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BC3A7-D57F-49F2-A24F-F4ABC790EF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622380-B01F-4A82-829B-8162C357D7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8B199D-358F-4ED3-A9F5-D6BFE5D4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1FCA37-6193-44BF-B2DA-995938E2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EC1B68-9E5B-4293-83D9-3FE83403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CF68DA-9DD1-423E-8F18-6DB988C5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AF5AE-AFD4-4836-8A14-166D8C9C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EB1682-55F4-4DDA-B826-69C6396F5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DDFE0B-8099-4B65-975A-D9EBFEBF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8A5255-003F-4EB7-8C9E-B2B83100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45662D-65C2-40DB-B63F-783EAD64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EC4F47-ADD2-4E7B-806F-8F15F61E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251C80-B4E8-4684-BD83-4315F29F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A5E0AF-1B0F-425F-A87F-8242BFC69D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1D65D2-11A2-4C05-BD95-5D3F32DE15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B388B4-AF08-42F4-9563-5A0D75CF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DD2810-DF90-4C15-9408-18206D4E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1207-A0B6-485A-965B-65001232D40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D8A3-9B8C-44C6-8A20-825767E456A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F06F-DED7-4D78-B86A-16369D8CD14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CA45-6A14-4B77-8612-E7B21798AC0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3126-B85A-43C5-9D53-ED97C2F9D13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6397-8D85-46BB-B3F9-9C54167D9A7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A039-AD90-45DA-9C13-2134F3F9E3B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D323-E249-4E6E-A100-7AAC56AF875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3809-DC04-4F72-AE0D-8D956B11F0D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D14D-8971-4E80-9270-E933A5EF7C7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769E-FC36-49F9-BAD5-D3341DCBB0F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4A06-F536-4406-9D5A-0F1A7C458FE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D03C-84D8-4D66-8809-F89984448D7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88BE-263A-43BD-9417-DC8934CCBFD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877A-BFAE-4156-A9BC-ED31C86581F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6D38-9BA0-4338-902C-43532E47DA2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ACF3-CD1F-49A0-9CAB-3EDEBFCEE4A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1D4D-8660-438C-9AC5-D7395B2A125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DE87-4374-47D7-B165-CA8ADFBD373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10D9-3BE5-46FF-9A30-6A4A4F2E87D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3BB8-8C6B-4345-9090-F1632422F8E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82E4-B643-4FAB-88CA-3AC8537970D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D7D0-C1D2-4237-9550-98BA1E1FBE4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14D9-3F7D-4CD1-BE31-E39AF87B7DF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tif"/><Relationship Id="rId2" Type="http://schemas.openxmlformats.org/officeDocument/2006/relationships/image" Target="../media/image15.ti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20.tif"/><Relationship Id="rId9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797200" y="270360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图 形 与 几 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3352680" cy="360"/>
            <a:chOff x="2284560" y="2448000"/>
            <a:chExt cx="335268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33526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3352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1459080" y="1744560"/>
            <a:ext cx="792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复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TextBox 3"/>
          <p:cNvSpPr/>
          <p:nvPr/>
        </p:nvSpPr>
        <p:spPr>
          <a:xfrm>
            <a:off x="503280" y="71280"/>
            <a:ext cx="2990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复习整理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3"/>
          <p:cNvSpPr/>
          <p:nvPr/>
        </p:nvSpPr>
        <p:spPr>
          <a:xfrm>
            <a:off x="1627560" y="682560"/>
            <a:ext cx="966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直线、射线、线段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Picture 4" descr="MRSJA46"/>
          <p:cNvPicPr/>
          <p:nvPr/>
        </p:nvPicPr>
        <p:blipFill>
          <a:blip r:embed="rId8"/>
          <a:stretch/>
        </p:blipFill>
        <p:spPr>
          <a:xfrm>
            <a:off x="900000" y="1415880"/>
            <a:ext cx="3714840" cy="474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5" descr="MRSJA47"/>
          <p:cNvPicPr/>
          <p:nvPr/>
        </p:nvPicPr>
        <p:blipFill>
          <a:blip r:embed="rId9"/>
          <a:stretch/>
        </p:blipFill>
        <p:spPr>
          <a:xfrm>
            <a:off x="1405080" y="2281320"/>
            <a:ext cx="2908080" cy="29520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6" descr="MRSJA45"/>
          <p:cNvPicPr/>
          <p:nvPr/>
        </p:nvPicPr>
        <p:blipFill>
          <a:blip r:embed="rId10"/>
          <a:stretch/>
        </p:blipFill>
        <p:spPr>
          <a:xfrm>
            <a:off x="1981080" y="2930400"/>
            <a:ext cx="1543320" cy="295560"/>
          </a:xfrm>
          <a:prstGeom prst="rect">
            <a:avLst/>
          </a:prstGeom>
          <a:ln w="0">
            <a:noFill/>
          </a:ln>
        </p:spPr>
      </p:pic>
      <p:sp>
        <p:nvSpPr>
          <p:cNvPr id="1014" name="Text Box 7"/>
          <p:cNvSpPr/>
          <p:nvPr/>
        </p:nvSpPr>
        <p:spPr>
          <a:xfrm>
            <a:off x="5098680" y="1344600"/>
            <a:ext cx="1018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直线</a:t>
            </a:r>
            <a:r>
              <a:rPr b="1" i="1" lang="zh-CN" sz="2500" spc="-1" strike="noStrike">
                <a:solidFill>
                  <a:srgbClr val="ff0000"/>
                </a:solidFill>
                <a:latin typeface="EU-B1X"/>
                <a:ea typeface="EU-B1X"/>
              </a:rPr>
              <a:t>A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8"/>
          <p:cNvSpPr/>
          <p:nvPr/>
        </p:nvSpPr>
        <p:spPr>
          <a:xfrm>
            <a:off x="5108040" y="2033640"/>
            <a:ext cx="1018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射线</a:t>
            </a:r>
            <a:r>
              <a:rPr b="1" i="1" lang="zh-CN" sz="2500" spc="-1" strike="noStrike">
                <a:solidFill>
                  <a:srgbClr val="ff0000"/>
                </a:solidFill>
                <a:latin typeface="EU-B1X"/>
                <a:ea typeface="EU-B1X"/>
              </a:rPr>
              <a:t>A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9"/>
          <p:cNvSpPr/>
          <p:nvPr/>
        </p:nvSpPr>
        <p:spPr>
          <a:xfrm>
            <a:off x="5139720" y="2724120"/>
            <a:ext cx="1018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EU-B1X"/>
                <a:ea typeface="EU-B1X"/>
              </a:rPr>
              <a:t>线段</a:t>
            </a:r>
            <a:r>
              <a:rPr b="1" i="1" lang="zh-CN" sz="2500" spc="-1" strike="noStrike">
                <a:solidFill>
                  <a:srgbClr val="ff0000"/>
                </a:solidFill>
                <a:latin typeface="EU-B1X"/>
                <a:ea typeface="EU-B1X"/>
              </a:rPr>
              <a:t>A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10"/>
          <p:cNvSpPr/>
          <p:nvPr/>
        </p:nvSpPr>
        <p:spPr>
          <a:xfrm>
            <a:off x="732600" y="3336840"/>
            <a:ext cx="67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角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8" name="Picture 11" descr="MRSJA38A"/>
          <p:cNvPicPr/>
          <p:nvPr/>
        </p:nvPicPr>
        <p:blipFill>
          <a:blip r:embed="rId11"/>
          <a:stretch/>
        </p:blipFill>
        <p:spPr>
          <a:xfrm>
            <a:off x="2197080" y="3646440"/>
            <a:ext cx="1368360" cy="117792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2" descr="MRSJA38B"/>
          <p:cNvPicPr/>
          <p:nvPr/>
        </p:nvPicPr>
        <p:blipFill>
          <a:blip r:embed="rId12"/>
          <a:stretch/>
        </p:blipFill>
        <p:spPr>
          <a:xfrm>
            <a:off x="1333440" y="5157720"/>
            <a:ext cx="5688000" cy="1084320"/>
          </a:xfrm>
          <a:prstGeom prst="rect">
            <a:avLst/>
          </a:prstGeom>
          <a:ln w="0">
            <a:noFill/>
          </a:ln>
        </p:spPr>
      </p:pic>
      <p:sp>
        <p:nvSpPr>
          <p:cNvPr id="1020" name="Text Box 13"/>
          <p:cNvSpPr/>
          <p:nvPr/>
        </p:nvSpPr>
        <p:spPr>
          <a:xfrm>
            <a:off x="4091400" y="3973680"/>
            <a:ext cx="109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EU-B1X"/>
                <a:ea typeface="EU-B1X"/>
              </a:rPr>
              <a:t>记</a:t>
            </a:r>
            <a:r>
              <a:rPr b="1" lang="zh-CN" sz="2500" spc="-1" strike="noStrike">
                <a:solidFill>
                  <a:srgbClr val="ff0000"/>
                </a:solidFill>
                <a:latin typeface="EU-B1X"/>
                <a:ea typeface="宋体"/>
              </a:rPr>
              <a:t>作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∠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Text Box 2"/>
          <p:cNvSpPr/>
          <p:nvPr/>
        </p:nvSpPr>
        <p:spPr>
          <a:xfrm>
            <a:off x="1726560" y="682560"/>
            <a:ext cx="67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垂直与平行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2" name="Picture 3" descr="MRSJA39A"/>
          <p:cNvPicPr/>
          <p:nvPr/>
        </p:nvPicPr>
        <p:blipFill>
          <a:blip r:embed="rId1"/>
          <a:stretch/>
        </p:blipFill>
        <p:spPr>
          <a:xfrm>
            <a:off x="1476360" y="1270080"/>
            <a:ext cx="1822320" cy="13064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4" descr="MRSJA39B"/>
          <p:cNvPicPr/>
          <p:nvPr/>
        </p:nvPicPr>
        <p:blipFill>
          <a:blip r:embed="rId2"/>
          <a:stretch/>
        </p:blipFill>
        <p:spPr>
          <a:xfrm>
            <a:off x="5003640" y="1628640"/>
            <a:ext cx="1822680" cy="701640"/>
          </a:xfrm>
          <a:prstGeom prst="rect">
            <a:avLst/>
          </a:prstGeom>
          <a:ln w="0">
            <a:noFill/>
          </a:ln>
        </p:spPr>
      </p:pic>
      <p:sp>
        <p:nvSpPr>
          <p:cNvPr id="1024" name="Text Box 5"/>
          <p:cNvSpPr/>
          <p:nvPr/>
        </p:nvSpPr>
        <p:spPr>
          <a:xfrm>
            <a:off x="2058120" y="262260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垂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6"/>
          <p:cNvSpPr/>
          <p:nvPr/>
        </p:nvSpPr>
        <p:spPr>
          <a:xfrm>
            <a:off x="5601600" y="262260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平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7"/>
          <p:cNvSpPr/>
          <p:nvPr/>
        </p:nvSpPr>
        <p:spPr>
          <a:xfrm>
            <a:off x="2202480" y="3409920"/>
            <a:ext cx="67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平行四边形和梯形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Picture 8" descr="MRSJA40"/>
          <p:cNvPicPr/>
          <p:nvPr/>
        </p:nvPicPr>
        <p:blipFill>
          <a:blip r:embed="rId3"/>
          <a:stretch/>
        </p:blipFill>
        <p:spPr>
          <a:xfrm>
            <a:off x="1260360" y="4005360"/>
            <a:ext cx="6784920" cy="1081080"/>
          </a:xfrm>
          <a:prstGeom prst="rect">
            <a:avLst/>
          </a:prstGeom>
          <a:ln w="0">
            <a:noFill/>
          </a:ln>
        </p:spPr>
      </p:pic>
      <p:sp>
        <p:nvSpPr>
          <p:cNvPr id="1028" name="Text Box 9"/>
          <p:cNvSpPr/>
          <p:nvPr/>
        </p:nvSpPr>
        <p:spPr>
          <a:xfrm>
            <a:off x="1363680" y="5127480"/>
            <a:ext cx="1133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平行四边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10"/>
          <p:cNvSpPr/>
          <p:nvPr/>
        </p:nvSpPr>
        <p:spPr>
          <a:xfrm>
            <a:off x="3683880" y="511812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梯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11"/>
          <p:cNvSpPr/>
          <p:nvPr/>
        </p:nvSpPr>
        <p:spPr>
          <a:xfrm>
            <a:off x="5479920" y="510696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等腰梯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12"/>
          <p:cNvSpPr/>
          <p:nvPr/>
        </p:nvSpPr>
        <p:spPr>
          <a:xfrm>
            <a:off x="7265880" y="508464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直角梯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Text Box 3"/>
          <p:cNvSpPr/>
          <p:nvPr/>
        </p:nvSpPr>
        <p:spPr>
          <a:xfrm>
            <a:off x="941040" y="911160"/>
            <a:ext cx="64728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公顷的认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边长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米的正方形的土地面积是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公顷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公顷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=10000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平方米      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10000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平方米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=1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公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Group 4"/>
          <p:cNvGrpSpPr/>
          <p:nvPr/>
        </p:nvGrpSpPr>
        <p:grpSpPr>
          <a:xfrm>
            <a:off x="1305000" y="3429000"/>
            <a:ext cx="7517880" cy="1822320"/>
            <a:chOff x="1305000" y="3429000"/>
            <a:chExt cx="7517880" cy="1822320"/>
          </a:xfrm>
        </p:grpSpPr>
        <p:sp>
          <p:nvSpPr>
            <p:cNvPr id="1034" name="Text Box 5"/>
            <p:cNvSpPr/>
            <p:nvPr/>
          </p:nvSpPr>
          <p:spPr>
            <a:xfrm>
              <a:off x="1380600" y="3429000"/>
              <a:ext cx="5756400" cy="10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     </a:t>
              </a:r>
              <a:r>
                <a:rPr b="1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新学的公顷与平方米之间的进率是</a:t>
              </a:r>
              <a:r>
                <a:rPr b="1" lang="zh-CN" sz="25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10000</a:t>
              </a:r>
              <a:r>
                <a:rPr b="1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，与以前学习过的三个面积之间的进率有什么不同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AutoShape 6"/>
            <p:cNvSpPr/>
            <p:nvPr/>
          </p:nvSpPr>
          <p:spPr>
            <a:xfrm>
              <a:off x="1305000" y="3429000"/>
              <a:ext cx="5869440" cy="1656720"/>
            </a:xfrm>
            <a:prstGeom prst="wedgeRoundRectCallout">
              <a:avLst>
                <a:gd name="adj1" fmla="val 55879"/>
                <a:gd name="adj2" fmla="val -1037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6" name="Picture 7" descr="小女孩"/>
            <p:cNvPicPr/>
            <p:nvPr/>
          </p:nvPicPr>
          <p:blipFill>
            <a:blip r:embed="rId1"/>
            <a:stretch/>
          </p:blipFill>
          <p:spPr>
            <a:xfrm>
              <a:off x="7625520" y="3429000"/>
              <a:ext cx="1197360" cy="18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7" name="Text Box 3"/>
          <p:cNvSpPr/>
          <p:nvPr/>
        </p:nvSpPr>
        <p:spPr>
          <a:xfrm>
            <a:off x="2201400" y="5305320"/>
            <a:ext cx="4828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以前学过的三个面积单位每相邻两个的进率是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Text Box 2"/>
          <p:cNvSpPr/>
          <p:nvPr/>
        </p:nvSpPr>
        <p:spPr>
          <a:xfrm>
            <a:off x="1683720" y="766800"/>
            <a:ext cx="5384160" cy="25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平方千米的认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边长是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1000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米的正方形土地面积是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平方千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cc0000"/>
                </a:solidFill>
                <a:latin typeface="Arial"/>
                <a:ea typeface="宋体"/>
              </a:rPr>
              <a:t>       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平方千米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=100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公顷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=1000000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平方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cc0000"/>
                </a:solidFill>
                <a:latin typeface="Arial"/>
                <a:ea typeface="宋体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平方千米是一个较大的面积单位，它一般用于计量一个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城市、省、国家等的面积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Text Box 2"/>
          <p:cNvSpPr/>
          <p:nvPr/>
        </p:nvSpPr>
        <p:spPr>
          <a:xfrm>
            <a:off x="469800" y="766800"/>
            <a:ext cx="502920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单位关系表示如图：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0" name="Picture 3" descr="MRSJA68"/>
          <p:cNvPicPr/>
          <p:nvPr/>
        </p:nvPicPr>
        <p:blipFill>
          <a:blip r:embed="rId1"/>
          <a:stretch/>
        </p:blipFill>
        <p:spPr>
          <a:xfrm>
            <a:off x="1403280" y="1689120"/>
            <a:ext cx="5362560" cy="2016000"/>
          </a:xfrm>
          <a:prstGeom prst="rect">
            <a:avLst/>
          </a:prstGeom>
          <a:ln w="0">
            <a:noFill/>
          </a:ln>
        </p:spPr>
      </p:pic>
      <p:grpSp>
        <p:nvGrpSpPr>
          <p:cNvPr id="1041" name="Group 4"/>
          <p:cNvGrpSpPr/>
          <p:nvPr/>
        </p:nvGrpSpPr>
        <p:grpSpPr>
          <a:xfrm>
            <a:off x="714240" y="3741840"/>
            <a:ext cx="7516800" cy="963360"/>
            <a:chOff x="714240" y="3741840"/>
            <a:chExt cx="7516800" cy="963360"/>
          </a:xfrm>
        </p:grpSpPr>
        <p:sp>
          <p:nvSpPr>
            <p:cNvPr id="1042" name="Text Box 5"/>
            <p:cNvSpPr/>
            <p:nvPr/>
          </p:nvSpPr>
          <p:spPr>
            <a:xfrm>
              <a:off x="856800" y="3885480"/>
              <a:ext cx="58680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举例说明</a:t>
              </a:r>
              <a:r>
                <a:rPr b="1" lang="zh-CN" sz="25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1</a:t>
              </a:r>
              <a:r>
                <a:rPr b="1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公顷、</a:t>
              </a:r>
              <a:r>
                <a:rPr b="1" lang="zh-CN" sz="25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1</a:t>
              </a:r>
              <a:r>
                <a:rPr b="1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平方千米各有多大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AutoShape 6"/>
            <p:cNvSpPr/>
            <p:nvPr/>
          </p:nvSpPr>
          <p:spPr>
            <a:xfrm>
              <a:off x="714240" y="3833640"/>
              <a:ext cx="6088680" cy="534600"/>
            </a:xfrm>
            <a:prstGeom prst="wedgeRoundRectCallout">
              <a:avLst>
                <a:gd name="adj1" fmla="val 56023"/>
                <a:gd name="adj2" fmla="val 1152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4" name="Picture 7" descr="E:\2017秋上·黄倩\其他\人\蜜蜂.gif蜜蜂"/>
            <p:cNvPicPr/>
            <p:nvPr/>
          </p:nvPicPr>
          <p:blipFill>
            <a:blip r:embed="rId2"/>
            <a:stretch/>
          </p:blipFill>
          <p:spPr>
            <a:xfrm>
              <a:off x="7356960" y="3741840"/>
              <a:ext cx="874080" cy="963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46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7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48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9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0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56" name="TextBox 3"/>
          <p:cNvSpPr/>
          <p:nvPr/>
        </p:nvSpPr>
        <p:spPr>
          <a:xfrm>
            <a:off x="431640" y="71280"/>
            <a:ext cx="2990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练习指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3"/>
          <p:cNvSpPr/>
          <p:nvPr/>
        </p:nvSpPr>
        <p:spPr>
          <a:xfrm>
            <a:off x="1418400" y="754200"/>
            <a:ext cx="6508440" cy="13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把下面各角的度数分别填在适当的圈里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15°      38°      91°      89°      178°      63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115°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13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°    19°     179°     128°      75°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正圆 436"/>
          <p:cNvSpPr/>
          <p:nvPr/>
        </p:nvSpPr>
        <p:spPr>
          <a:xfrm>
            <a:off x="1260360" y="2206800"/>
            <a:ext cx="2664000" cy="158400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正圆 436"/>
          <p:cNvSpPr/>
          <p:nvPr/>
        </p:nvSpPr>
        <p:spPr>
          <a:xfrm>
            <a:off x="4906800" y="2185920"/>
            <a:ext cx="2665440" cy="158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6"/>
          <p:cNvSpPr/>
          <p:nvPr/>
        </p:nvSpPr>
        <p:spPr>
          <a:xfrm>
            <a:off x="2195640" y="3841920"/>
            <a:ext cx="2019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锐角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7"/>
          <p:cNvSpPr/>
          <p:nvPr/>
        </p:nvSpPr>
        <p:spPr>
          <a:xfrm>
            <a:off x="5946840" y="3819600"/>
            <a:ext cx="2054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钝角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8"/>
          <p:cNvSpPr/>
          <p:nvPr/>
        </p:nvSpPr>
        <p:spPr>
          <a:xfrm>
            <a:off x="2278080" y="4419720"/>
            <a:ext cx="401760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已知∠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1=75°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，求∠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、∠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和∠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的度数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3" name="Picture 9" descr="MRSJA42"/>
          <p:cNvPicPr/>
          <p:nvPr/>
        </p:nvPicPr>
        <p:blipFill>
          <a:blip r:embed="rId8"/>
          <a:stretch/>
        </p:blipFill>
        <p:spPr>
          <a:xfrm>
            <a:off x="1619280" y="5086440"/>
            <a:ext cx="1547640" cy="1206360"/>
          </a:xfrm>
          <a:prstGeom prst="rect">
            <a:avLst/>
          </a:prstGeom>
          <a:ln w="0">
            <a:noFill/>
          </a:ln>
        </p:spPr>
      </p:pic>
      <p:grpSp>
        <p:nvGrpSpPr>
          <p:cNvPr id="1064" name="组合 16"/>
          <p:cNvGrpSpPr/>
          <p:nvPr/>
        </p:nvGrpSpPr>
        <p:grpSpPr>
          <a:xfrm>
            <a:off x="1620000" y="2522520"/>
            <a:ext cx="2127240" cy="951480"/>
            <a:chOff x="1620000" y="2522520"/>
            <a:chExt cx="2127240" cy="951480"/>
          </a:xfrm>
        </p:grpSpPr>
        <p:sp>
          <p:nvSpPr>
            <p:cNvPr id="1065" name="文本框 1"/>
            <p:cNvSpPr/>
            <p:nvPr/>
          </p:nvSpPr>
          <p:spPr>
            <a:xfrm>
              <a:off x="1620000" y="2522520"/>
              <a:ext cx="71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5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文本框 2"/>
            <p:cNvSpPr/>
            <p:nvPr/>
          </p:nvSpPr>
          <p:spPr>
            <a:xfrm>
              <a:off x="2307960" y="2522520"/>
              <a:ext cx="71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38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文本框 3"/>
            <p:cNvSpPr/>
            <p:nvPr/>
          </p:nvSpPr>
          <p:spPr>
            <a:xfrm>
              <a:off x="3028320" y="2522520"/>
              <a:ext cx="71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63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文本框 4"/>
            <p:cNvSpPr/>
            <p:nvPr/>
          </p:nvSpPr>
          <p:spPr>
            <a:xfrm>
              <a:off x="1671480" y="2953440"/>
              <a:ext cx="135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89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°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文本框 6"/>
            <p:cNvSpPr/>
            <p:nvPr/>
          </p:nvSpPr>
          <p:spPr>
            <a:xfrm>
              <a:off x="2904120" y="2953440"/>
              <a:ext cx="71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5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0" name="组合 17"/>
          <p:cNvGrpSpPr/>
          <p:nvPr/>
        </p:nvGrpSpPr>
        <p:grpSpPr>
          <a:xfrm>
            <a:off x="4927320" y="2362320"/>
            <a:ext cx="2619360" cy="1332360"/>
            <a:chOff x="4927320" y="2362320"/>
            <a:chExt cx="2619360" cy="1332360"/>
          </a:xfrm>
        </p:grpSpPr>
        <p:sp>
          <p:nvSpPr>
            <p:cNvPr id="1071" name="文本框 8"/>
            <p:cNvSpPr/>
            <p:nvPr/>
          </p:nvSpPr>
          <p:spPr>
            <a:xfrm>
              <a:off x="5243760" y="2362320"/>
              <a:ext cx="71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91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文本框 9"/>
            <p:cNvSpPr/>
            <p:nvPr/>
          </p:nvSpPr>
          <p:spPr>
            <a:xfrm>
              <a:off x="6033240" y="2362320"/>
              <a:ext cx="91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78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文本框 10"/>
            <p:cNvSpPr/>
            <p:nvPr/>
          </p:nvSpPr>
          <p:spPr>
            <a:xfrm>
              <a:off x="4927320" y="2776320"/>
              <a:ext cx="91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15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文本框 12"/>
            <p:cNvSpPr/>
            <p:nvPr/>
          </p:nvSpPr>
          <p:spPr>
            <a:xfrm>
              <a:off x="5856840" y="2759760"/>
              <a:ext cx="91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38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文本框 14"/>
            <p:cNvSpPr/>
            <p:nvPr/>
          </p:nvSpPr>
          <p:spPr>
            <a:xfrm>
              <a:off x="6629760" y="2743200"/>
              <a:ext cx="91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79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文本框 15"/>
            <p:cNvSpPr/>
            <p:nvPr/>
          </p:nvSpPr>
          <p:spPr>
            <a:xfrm>
              <a:off x="5768640" y="3174120"/>
              <a:ext cx="91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28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7" name="文本框 18"/>
          <p:cNvSpPr/>
          <p:nvPr/>
        </p:nvSpPr>
        <p:spPr>
          <a:xfrm>
            <a:off x="4051440" y="4921200"/>
            <a:ext cx="198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105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75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=105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7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8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89" name="TextBox 3"/>
          <p:cNvSpPr/>
          <p:nvPr/>
        </p:nvSpPr>
        <p:spPr>
          <a:xfrm>
            <a:off x="358920" y="71280"/>
            <a:ext cx="2990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实践应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3"/>
          <p:cNvSpPr/>
          <p:nvPr/>
        </p:nvSpPr>
        <p:spPr>
          <a:xfrm>
            <a:off x="3410280" y="898560"/>
            <a:ext cx="114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利用下面的平行线画一个长方形和正方形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1" name="Group 4"/>
          <p:cNvGrpSpPr/>
          <p:nvPr/>
        </p:nvGrpSpPr>
        <p:grpSpPr>
          <a:xfrm>
            <a:off x="1332000" y="1701720"/>
            <a:ext cx="5822640" cy="1444320"/>
            <a:chOff x="1332000" y="1701720"/>
            <a:chExt cx="5822640" cy="1444320"/>
          </a:xfrm>
        </p:grpSpPr>
        <p:grpSp>
          <p:nvGrpSpPr>
            <p:cNvPr id="1092" name=""/>
            <p:cNvGrpSpPr/>
            <p:nvPr/>
          </p:nvGrpSpPr>
          <p:grpSpPr>
            <a:xfrm>
              <a:off x="1332000" y="1701720"/>
              <a:ext cx="5760720" cy="360"/>
              <a:chOff x="1332000" y="1701720"/>
              <a:chExt cx="5760720" cy="360"/>
            </a:xfrm>
          </p:grpSpPr>
          <p:sp>
            <p:nvSpPr>
              <p:cNvPr id="1093" name="Line 5"/>
              <p:cNvSpPr/>
              <p:nvPr/>
            </p:nvSpPr>
            <p:spPr>
              <a:xfrm>
                <a:off x="1332000" y="1701720"/>
                <a:ext cx="576072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 txBox="1"/>
              <p:nvPr/>
            </p:nvSpPr>
            <p:spPr>
              <a:xfrm>
                <a:off x="1332000" y="1701720"/>
                <a:ext cx="576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5" name=""/>
            <p:cNvGrpSpPr/>
            <p:nvPr/>
          </p:nvGrpSpPr>
          <p:grpSpPr>
            <a:xfrm>
              <a:off x="1393920" y="3145680"/>
              <a:ext cx="5760720" cy="360"/>
              <a:chOff x="1393920" y="3145680"/>
              <a:chExt cx="5760720" cy="360"/>
            </a:xfrm>
          </p:grpSpPr>
          <p:sp>
            <p:nvSpPr>
              <p:cNvPr id="1096" name="Line 6"/>
              <p:cNvSpPr/>
              <p:nvPr/>
            </p:nvSpPr>
            <p:spPr>
              <a:xfrm>
                <a:off x="1393920" y="3145680"/>
                <a:ext cx="576072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 txBox="1"/>
              <p:nvPr/>
            </p:nvSpPr>
            <p:spPr>
              <a:xfrm>
                <a:off x="1393920" y="3145680"/>
                <a:ext cx="576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8" name="Text Box 7"/>
          <p:cNvSpPr/>
          <p:nvPr/>
        </p:nvSpPr>
        <p:spPr>
          <a:xfrm>
            <a:off x="1494000" y="3489480"/>
            <a:ext cx="5676480" cy="25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把符合要求的图形序号填在括号里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A.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正方形    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B.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长方形    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C.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平行四边形    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D.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梯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两组对边分别平行，有四个直角。（    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只有一组对边平行。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    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两组对边分别平行。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    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文本框 1"/>
          <p:cNvSpPr/>
          <p:nvPr/>
        </p:nvSpPr>
        <p:spPr>
          <a:xfrm>
            <a:off x="3097080" y="2190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答案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文本框 2"/>
          <p:cNvSpPr/>
          <p:nvPr/>
        </p:nvSpPr>
        <p:spPr>
          <a:xfrm>
            <a:off x="6906960" y="46227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文本框 3"/>
          <p:cNvSpPr/>
          <p:nvPr/>
        </p:nvSpPr>
        <p:spPr>
          <a:xfrm>
            <a:off x="7032240" y="5119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文本框 4"/>
          <p:cNvSpPr/>
          <p:nvPr/>
        </p:nvSpPr>
        <p:spPr>
          <a:xfrm>
            <a:off x="7021080" y="5610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3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04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5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06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7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14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Box 32"/>
          <p:cNvSpPr/>
          <p:nvPr/>
        </p:nvSpPr>
        <p:spPr>
          <a:xfrm>
            <a:off x="871560" y="1222200"/>
            <a:ext cx="8448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测量土地的面积，公顷和平方千米常用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它们之间何联系，进率一百要牢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公顷化成平方米，乘上一万不混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线段直线和射线，有限无限直的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角在哪里都常见，大小分类紧关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锐角钝平到周角，从小到大排列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量角画角量角器，中心顶点重一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°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刻度线对一边，关键就看内外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7T06:00:40Z</dcterms:created>
  <dc:creator/>
  <dc:description/>
  <dc:language>en-US</dc:language>
  <cp:lastModifiedBy>万润仪器贸易公司</cp:lastModifiedBy>
  <dcterms:modified xsi:type="dcterms:W3CDTF">2020-08-21T09:04:34Z</dcterms:modified>
  <cp:revision>2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